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787C-DC93-4118-AA97-1ADDEBB3C209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DF00-4B08-4654-8522-43C91A811B0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478D-9111-4F63-8072-8CBF9DAD591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2645-F7CB-431A-9531-E60D2C8B6E2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B1C2-E1C8-422B-8C86-9C06EB0228F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4BF4-0F9E-465C-B200-005E8BCAB07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4DC6-4438-4DE5-92CA-9C79945772B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542C-59AD-4ACE-8CEF-4DA90AFF300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96D2-B0F3-4BBD-A578-E6173E6E4F8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D803-A880-47B6-8486-A6F8758029A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2AAD-E02E-4F42-89D6-D421268C905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ABB6-A373-41A2-B5E5-628559363D6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0C88-D3E2-4829-A7EC-07F29CF23BC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229F-D9D1-4ED7-8063-3FA665AA0BD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ástupný symbol päty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čísla snímky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2B87-D3EC-4892-96B4-B9B0A0D962D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4E7-E78F-4C5F-A41D-3D8D918D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7DB-1956-4B86-AB92-0567282D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D48-D645-4D7A-879B-03E0DD1C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9D9-209D-4A36-8DCD-55B3C8CE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462D-F426-4847-91A7-F10AF3EA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D5CE-AB6E-4B70-97A7-BE15CB24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A1AB-5177-4C80-9245-BB108463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5448-B9ED-4C87-91E0-69090DE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BAEE-C838-42B7-B5CC-F5F2D824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0A3D-C540-4B96-8130-D5E40DAD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75D7-488B-40BF-B91A-8C5A1632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F7A-D733-4EA2-876E-0683D6A9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AE8E-1818-4D9B-AA71-CA010E4D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78C9-F329-4876-B728-90F6C2A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33AA-08A1-419D-BB93-8E24C8FC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3BBA-A7EA-4E49-B323-66018387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4C5A-404D-4C0D-9FA8-BB164981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0FC-2A8F-431E-9EA2-86A650BB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82C-14B5-4610-B849-3EDEC41E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30E-C4DF-42B8-80CA-AE05CBA4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3EB-236C-4853-BAD6-BF968329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405-9FAA-4EB5-9DA1-8603F482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B66-2642-4C9A-8F45-4A411261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E4B-DC64-4593-8422-3B8B955B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804-86CC-42A5-A629-792203541CBA}" type="slidenum">
              <a:rPr b="0" lang="sk-SK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E65-F29B-4DAE-96C2-CBEE2B6BC766}" type="slidenum">
              <a:rPr b="0" lang="sk-SK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06633"/>
                </a:solidFill>
                <a:latin typeface="Garamond"/>
              </a:rPr>
              <a:t>Exercise 2-7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CE: Criteria Development and the</a:t>
            </a:r>
            <a:r>
              <a:rPr b="0" lang="sk-SK" sz="50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Boolean</a:t>
            </a:r>
            <a:r>
              <a:rPr b="0" lang="sk-SK" sz="5000" spc="-1" strike="noStrike">
                <a:solidFill>
                  <a:srgbClr val="006633"/>
                </a:solidFill>
                <a:latin typeface="Garamond"/>
              </a:rPr>
              <a:t> Approach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met: Tvorba rozhodnu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í v 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gr. Gabriel Petříček, Mgr. Vladimír Pel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2.obmedzen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xtrahovanie lokalít možnej výstavby z mcelanduse -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Reclas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vstup mcelanduse, výstup obmedzenie2, 1-vhodné na výstavbu a 0-nevhodné na výstavbu: 1,1-5; 0,5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168800" y="2857680"/>
            <a:ext cx="49831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Fak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331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evelopérs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užitie Zeme mcelanduse (má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dialenosť od c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dialenosť od mestského cen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lon relié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nvironmentál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by sa predišlo znečisteniu vodných plôch (má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by sa stavalo v blízkosti existujúcej zástav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2. Vzdialenosť od ci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ytvoriť prázdny raster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 – Initial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ýstup roaddist1, vzor mceland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eviesť vektor mceroads na raster –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RasterVector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„Vector to raster“, „Line to raster“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vstup mceroads, výstup roaddist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Rastrová vrstva vzdialenosti od ciest -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stup roaddist1, výstup Faktor2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-15840" y="2862360"/>
            <a:ext cx="5435640" cy="4030560"/>
          </a:xfrm>
          <a:prstGeom prst="rect">
            <a:avLst/>
          </a:prstGeom>
          <a:ln w="0">
            <a:noFill/>
          </a:ln>
        </p:spPr>
      </p:pic>
      <p:pic>
        <p:nvPicPr>
          <p:cNvPr id="127" name="Obrázok 1" descr=""/>
          <p:cNvPicPr/>
          <p:nvPr/>
        </p:nvPicPr>
        <p:blipFill>
          <a:blip r:embed="rId2"/>
          <a:stretch/>
        </p:blipFill>
        <p:spPr>
          <a:xfrm>
            <a:off x="4683240" y="2862360"/>
            <a:ext cx="4476600" cy="40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3. Vzdialenosť od mestského cent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4280" indent="-5277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Máme 2 rastre: roaddist1 a MCECenter(predstavuje mestské centrum, v supplemen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4280" indent="-5277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Roaddist1 reklasifikujeme  -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Reclass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stup roaddist1, výstup roaddist2,  kde cesty=1 a „necesty“=3: 3,0-1; 1,1-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4280" indent="-5277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Na analýzu nákladov, v našom prípade vzdialenosť od centra pomocou cestnej siete -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Cost („Cost grow“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stupy MCECenter(„Source feature image“), roaddist2 („Use friction surface), výstup Faktor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148280" y="2825640"/>
            <a:ext cx="4995720" cy="403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4000680" y="2825640"/>
            <a:ext cx="5143320" cy="4032360"/>
          </a:xfrm>
          <a:prstGeom prst="rect">
            <a:avLst/>
          </a:prstGeom>
          <a:ln w="0">
            <a:noFill/>
          </a:ln>
        </p:spPr>
      </p:pic>
      <p:pic>
        <p:nvPicPr>
          <p:cNvPr id="132" name="Obrázok 1" descr=""/>
          <p:cNvPicPr/>
          <p:nvPr/>
        </p:nvPicPr>
        <p:blipFill>
          <a:blip r:embed="rId3"/>
          <a:stretch/>
        </p:blipFill>
        <p:spPr>
          <a:xfrm>
            <a:off x="4665600" y="2825640"/>
            <a:ext cx="44784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4. Sklon reliéf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331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užije sa výškový model MCEele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Na výpočet sklonov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 - Slope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stup MCEelev, výstup Faktor4, „Slope“, „Degrees“)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314960" y="2886120"/>
            <a:ext cx="4829040" cy="3971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4172040" y="3114720"/>
            <a:ext cx="49719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6. Vzdialenosť od zastavaných oblas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klasifikuje sa mcelanduse tak, aby do kategórie 1 patrili zastavané oblasti a do kategórie 0 ostatné (1-4 a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vstup mcelanduse, výstup mcelandusereclass, 0,0-5; 1,5-13; 0,13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ocou modulu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a vypočítajú vzdialenosti od zastavaných oblastí –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Distanc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vstup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mcelandusereclass, výstup Faktor6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186080" y="2825640"/>
            <a:ext cx="4984920" cy="403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3606840" y="2825640"/>
            <a:ext cx="5537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Booleansky postup pre fak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astrová vrstva  má dve kategórie 1 a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Zmena tried faktorov: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z mcelanduse, kde 1 budú len územia, kde je najvýhodnejšie stavať (lesy a nerozvinuté plochy), ostatné patria do 0 triedy –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mcelanduse, výstup bool1, 0,0-3; 1,3-5; 0,5-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vzdialenosti od ciest, kde do 400m =  1, 400m a viac = 0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Faktor2, výstup bool2, 1,0-400; 0,400-5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vzdialenosti od centra, kde do 400 grid cell = 1, 400 a viac = 0 (t.j. 10 minút = 400 grid cell)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Faktor3, výstup bool3, 1,0-400; 0,400-5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sklonov, kde 1 = do 9°, 0 = 9° a viac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Faktor4, výstup bool4, 1,0-9; 0,9-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buffera 100 metrov od vodných tokov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uffer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vodne_plochy, výstup bool5, vzdialenosť 100, ďalšie nastavenia 0,0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vzdialenosti od zastavaných oblasti. 1 = do 300m, 0 = 300 a viac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faktor6, výstup bool6, 1,0,300; 0,300,5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4165560" y="2832120"/>
            <a:ext cx="4984920" cy="403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2"/>
          <a:stretch/>
        </p:blipFill>
        <p:spPr>
          <a:xfrm>
            <a:off x="4167360" y="2832120"/>
            <a:ext cx="4983120" cy="403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3"/>
          <a:stretch/>
        </p:blipFill>
        <p:spPr>
          <a:xfrm>
            <a:off x="4156200" y="2789280"/>
            <a:ext cx="4984560" cy="403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4"/>
          <a:stretch/>
        </p:blipFill>
        <p:spPr>
          <a:xfrm>
            <a:off x="4076640" y="2846520"/>
            <a:ext cx="4983120" cy="403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3251160" y="2828880"/>
            <a:ext cx="5899320" cy="403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4076640" y="2832120"/>
            <a:ext cx="4996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Výsledok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ocou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Image Calculator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využitím logického operátora AND alebo modulu MCE vznikne výsledný image, ktorý reprezentuje územia, kde je možná výstavba nových budov (použijú sa 2 obmedzenia a 6 kritérií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4270320" y="2825640"/>
            <a:ext cx="48736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Iný výsledo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ite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Image Calculator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využitím logického operátora 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o sa zmenil výsled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Obrázok 1" descr=""/>
          <p:cNvPicPr/>
          <p:nvPr/>
        </p:nvPicPr>
        <p:blipFill>
          <a:blip r:embed="rId1"/>
          <a:stretch/>
        </p:blipFill>
        <p:spPr>
          <a:xfrm>
            <a:off x="4422600" y="2825640"/>
            <a:ext cx="4721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Ďakujem za pozornosť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Viac kritériové rozhodnu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stup združovania informácií z viacerých kritérií k vytvoreniu jednotného indexu rozhodnut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aktory (Fa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um, ktoré zväčšuje alebo zmenšuje vhod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bmedzenia (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imity faktorov (rozsah 0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Zadan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eľom cvičenia je nájsť vhodnú lokalitu novej výstavby v okolí mesta Westborough, Massachusetts, U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3 záujmové skupiny (radnica, developer, environmentálni aktivi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užijeme 2 obmedzenia (dané radnicou) a 6 kritérií (4 developerské, 2 environmentálne) na vyhľadávanie vhodnej lok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Výsledok cvičen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1714680" y="1428840"/>
            <a:ext cx="59292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Vysvetliv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aždý modul je písaný kurzívou (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</a:rPr>
              <a:t>Re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ametre modulu sú písané v zátvork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äčšina modulov má v parametroch pomenovaný vstup(alebo viac) a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oľba parametrov je uvádzaná v „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 parameter nie je uvedený v zátvorkách, tak sa ponecháva defaultné nastav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Použité modu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Reclas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na reklasifikáciu rastrov, vek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RasterVec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prevod z rastra na vektor a opač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tvorba prázdneho rastrového objektu podľa uvedenej špecifik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Image Calcula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rastrová kalkula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Buffe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tvorba oko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výpočet euklidovskej vzdial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- výpočet tzv. plochy nákladov (cost surface), kde je vzdialenosť meraná podľa najnižšej ceny, vynaloženého úsilia na pohyp po tzv. trecom povrchu(friction su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Slop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výpočet sklonov v % alebo °, súčasť modulu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6633"/>
                </a:solidFill>
                <a:latin typeface="Garamond"/>
              </a:rPr>
              <a:t>Obmedzeni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Zákaz stavať 50 metrov od otvorených vodných plôch, riek a mokrad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Zákaz stavať na existujúcej zástavbe (povolené stavať na orných pôdach, poľnohospodárskej ploche, lesoch a na nerozvinutých plochác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1. obmedzen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44784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tvorené vodné plochy („Open water“) = extrahovaním z rastrovej vrstvy mcelanduse - modul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stup mcelanduse, výstup mcelandusereclass1, 0,0-13; 1,13-1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44784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Riečna sieť (Streams) = vektorový súbor mcestreams previesť na raster –modul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RasterVector( „Vector to raster“, „Line to raster“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stup mcestreams, výstup streamraster,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modul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vzor mceland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44784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Mokrade (Wetlands) = mcewetland, rozbaliť archív SUPPLEMENTAL.z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2832120"/>
            <a:ext cx="5794200" cy="403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0" y="2825640"/>
            <a:ext cx="4635360" cy="403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27000" y="2820960"/>
            <a:ext cx="4995720" cy="4030560"/>
          </a:xfrm>
          <a:prstGeom prst="rect">
            <a:avLst/>
          </a:prstGeom>
          <a:ln w="0">
            <a:noFill/>
          </a:ln>
        </p:spPr>
      </p:pic>
      <p:pic>
        <p:nvPicPr>
          <p:cNvPr id="113" name="Obrázok 3" descr=""/>
          <p:cNvPicPr/>
          <p:nvPr/>
        </p:nvPicPr>
        <p:blipFill>
          <a:blip r:embed="rId4"/>
          <a:stretch/>
        </p:blipFill>
        <p:spPr>
          <a:xfrm>
            <a:off x="4422600" y="2832120"/>
            <a:ext cx="4721400" cy="4032360"/>
          </a:xfrm>
          <a:prstGeom prst="rect">
            <a:avLst/>
          </a:prstGeom>
          <a:ln w="0">
            <a:noFill/>
          </a:ln>
        </p:spPr>
      </p:pic>
      <p:pic>
        <p:nvPicPr>
          <p:cNvPr id="114" name="Obrázok 4" descr=""/>
          <p:cNvPicPr/>
          <p:nvPr/>
        </p:nvPicPr>
        <p:blipFill>
          <a:blip r:embed="rId5"/>
          <a:stretch/>
        </p:blipFill>
        <p:spPr>
          <a:xfrm>
            <a:off x="4676760" y="2836800"/>
            <a:ext cx="4478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1. obmedzen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pojenie vrstiev do jednej – modul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Image Calculator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„Logical expression“, použitie logického operátora OR, vstupy mcelandusereclass1, streamraster, mcewetland, výstup vodne_ploch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ytvoriť buffer 50 metrov okolo vodných plôch -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Buffer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stup vodne_plochy, výstup obmedzenie1,  vzdialenosť 50, ďalšie nastavenia 0,0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00" y="2843280"/>
            <a:ext cx="4865400" cy="4030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3276720" y="2843280"/>
            <a:ext cx="58672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8:29:55Z</dcterms:created>
  <dc:creator>Gapex</dc:creator>
  <dc:description/>
  <dc:language>en-US</dc:language>
  <cp:lastModifiedBy>Vlado</cp:lastModifiedBy>
  <dcterms:modified xsi:type="dcterms:W3CDTF">2018-03-13T09:05:33Z</dcterms:modified>
  <cp:revision>123</cp:revision>
  <dc:subject/>
  <dc:title>Tvorba rozhodnutí v GIS</dc:title>
</cp:coreProperties>
</file>